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E1E-96B3-4E66-AF03-90AA9B3F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AEC-97B8-4F66-96E0-F4DAA6B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E66-DDB8-454F-9236-B3654708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956-8BDD-419B-9215-1E638080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DB902-53B7-4B37-89AB-7CC5A8A7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F602E-E5B5-4BB8-9199-7F9F7E6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3D1B3-FD2D-4FE8-8E11-18FD23A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AAF9C-45FB-45EB-8D67-71B48AC2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AD864-B6ED-44D2-8EE1-A7D3826F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04CD-027D-4925-9FC9-89B477F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D7912-63AD-4672-BA35-119B67C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E9D-6D79-4F15-A7AE-2FBBF21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165B6-634D-426B-A75C-215B0F9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B9452-CB82-4D77-B2CF-3CD0263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B1C11-4A12-4B5E-8EAF-776FB947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F55D-025D-4EF9-9FF6-C4036C09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AE541-C2BE-4364-A06B-E21FA74C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1647-4229-4876-B078-5A2A1635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DEEC-7A07-45FA-962F-5BDF3E4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48C41-18B7-4FA1-A0E0-21439012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67CE-CB37-40E1-9FD3-3B9C1E15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F498-ED73-43B5-B329-619EF70F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84F-631A-423A-A3E5-5003B9EC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A05C-F9AC-45D8-B63B-A90B8BD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096B-42C0-423B-9335-CE0AEE5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30EF-103D-4270-B110-2270078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FBFC-D6F6-4942-BB7A-7BE0773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E5A1-DAC2-486A-99E6-D7792589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97DB-6F1B-4DC8-BAAB-BDC03365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FD60-E76A-4E06-8CB1-62666ACE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FB5D5-07C1-4F39-8D95-AB7E2877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A9E89-B787-44D2-A4B7-2DB4DFA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9C801-5C87-4A63-9461-1B65C80C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3F1-34E8-4C60-A707-54E3E6C3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43567-F8C6-4479-8926-9874863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5BE23-6931-43E3-9F86-98DAED80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E2B19-CC6A-47E5-9CC0-B258DADB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EE9B5-A275-4D13-97F0-7D14D57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2DD85-C5CF-4CF5-BE00-3A354C8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9CD1A-9D2A-4293-8003-EA82CB4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B77C5E-DDDA-4956-8348-23BF9E2C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AAF27-2880-423A-9432-3E1F27EB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E70CC-EB71-4DF0-A413-C03EEF3E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8A781-12BD-4782-AFCC-5E93976A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915-BE2C-4CB9-8FEA-0B7F4C4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82954-EFC3-4895-8B27-0E03955A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72FAF-12A0-449C-9504-33476EA6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D5A79-4A58-4480-A4EC-9FB1D35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B4DC0-6B28-4335-A04F-B6FE5A9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B7548-BBC8-4B86-91F8-8717F66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C4686-562A-4B7F-A72C-8B9FC42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AC47C-905D-422B-9897-2D4EEE8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53329-6538-44AC-BCD6-5921BE7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416B7-629B-4C83-BA4F-FFF569A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A263F-64ED-4300-B33B-E65F61F4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38F-1672-46C2-B407-3B401B5A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146AA-17F1-4422-BCE0-B7ECC519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0674C-DA00-4E34-9FC4-17CBA2F1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23201-2B3B-408E-A056-780999F9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9CE58-1FA2-40FF-A0FC-F94A75D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7C01B-2C4F-47A4-96AF-A6560C8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A8E5D-1677-48F1-881C-4BBEEB7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4A658-57B4-4CAD-B1C1-33847E5A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25D44-6A0E-4314-825D-04D2780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8294F-9DBE-43BB-B10A-623D34D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BEB52-4A46-43D8-B64B-FAEFADC2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4DC-8322-4BA9-AEBC-638DE1F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3330F-BB06-4AF6-A795-E7C1778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B06FA-BEDB-4821-91E1-8CC04FB7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ED7D6-09B2-4AFF-9CBF-72C10E0C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0C0-D62F-460B-AB7F-01A1117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576-99CD-4E7C-B5B4-898DA63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4C58-C531-4CA1-9147-ED99223E03F5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9D2D-F4EE-4FBC-B040-DFD3233C1499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2D2-7FA2-45E2-8056-BD5153BFBC1E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188-9404-449C-896C-FA41FD33E4AE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537-D261-44B6-AC6F-D4FC7CE2837E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F7EE-DF5D-4B8A-A76D-BD64251C9CCD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609480" y="255600"/>
            <a:ext cx="7772400" cy="2017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People under the age of 15 and over the age of 65 usually do not form part of the labour for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Constantia"/>
              </a:rPr>
              <a:t>Dependency Load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describes this segment of the population because these people depend on others for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f a country has a high dependency load it places more of a burden on the working population. (more taxes to meet health care needs/schooling need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over 65 age group will be the fastest growing population group in Canada in the next 20 yea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cf059"/>
                </a:solidFill>
                <a:latin typeface="Constantia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nstantia"/>
              </a:rPr>
              <a:t>Used to learn more about a population and what services that group may need in the future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nstantia"/>
              </a:rPr>
              <a:t>Also used to compare populations of different countri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cf059"/>
                </a:solidFill>
                <a:latin typeface="Constantia"/>
              </a:rPr>
              <a:t>Step 1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Draw two lines in the middle of the sheet of paper to make an upside-down letter 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cf059"/>
                </a:solidFill>
                <a:latin typeface="Constantia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Starting from the bottom, label the age groups from the chart on the vertical line an equal distance apar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cf059"/>
                </a:solidFill>
                <a:latin typeface="Constantia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Number  each square on the bottom line by fives, starting from 0 in the middle to the maximum percentage at the left and right edg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Label at the left side “Males” (%) and the right side “Females” (%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cf059"/>
                </a:solidFill>
                <a:latin typeface="Constantia"/>
              </a:rPr>
              <a:t>Step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Using the data provided draw a bar from the center line to show the percentages of people in each age group for males and then for fema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cf059"/>
                </a:solidFill>
                <a:latin typeface="Constantia"/>
              </a:rPr>
              <a:t>Step 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olour the male and female bars.  Use a different color for each age grou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cf059"/>
                </a:solidFill>
                <a:latin typeface="Constantia"/>
              </a:rPr>
              <a:t>Step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itle your population pyram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hat is a censu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Survey of the popul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hat is population densit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Number  of people per square kilometr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What is the formula for calculating pop dens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What is the pop density like in Canad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Correct Workshee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Content Placeholder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58" name="Title 2" descr=""/>
          <p:cNvPicPr/>
          <p:nvPr/>
        </p:nvPicPr>
        <p:blipFill>
          <a:blip r:embed="rId2"/>
          <a:stretch/>
        </p:blipFill>
        <p:spPr>
          <a:xfrm>
            <a:off x="262080" y="23760"/>
            <a:ext cx="85104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360360" y="1523880"/>
            <a:ext cx="8326440" cy="4572000"/>
          </a:xfrm>
          <a:prstGeom prst="rect">
            <a:avLst/>
          </a:prstGeom>
          <a:ln w="0">
            <a:noFill/>
          </a:ln>
        </p:spPr>
      </p:pic>
      <p:pic>
        <p:nvPicPr>
          <p:cNvPr id="260" name="Tit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n 1867 (when Canada became a nation) our population was 3 230 000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By 2001  that figure had grown to over 31 million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Statistics Canada- federal government agency responsible for collecting stats about all aspects of Can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932360"/>
          </a:xfrm>
          <a:prstGeom prst="rect">
            <a:avLst/>
          </a:prstGeom>
          <a:ln w="0">
            <a:noFill/>
          </a:ln>
        </p:spPr>
      </p:pic>
      <p:pic>
        <p:nvPicPr>
          <p:cNvPr id="264" name="Tit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How many people fall into different age grou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is information is often shown in the form of a population pyram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ntent Placeholder 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Tit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209520" y="1268280"/>
            <a:ext cx="8934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 country that has more young people than older people will experience higher population grow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 Country with more people in the older age groups is likely to have a slower population grow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anada’s population has a bulge in the midd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Baby Boomers (definitio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03:43Z</dcterms:created>
  <dc:creator>Jay</dc:creator>
  <dc:description/>
  <dc:language>en-US</dc:language>
  <cp:lastModifiedBy>Jason</cp:lastModifiedBy>
  <dcterms:modified xsi:type="dcterms:W3CDTF">2010-11-09T13:58:51Z</dcterms:modified>
  <cp:revision>9</cp:revision>
  <dc:subject/>
  <dc:title>5.2 Population Growth and Age Distribution</dc:title>
</cp:coreProperties>
</file>